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22280" y="767880"/>
            <a:ext cx="26542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304B-AA84-43A9-BD90-E84C0CE8D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18CE-C688-4F1D-AA9B-1B18F43F9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2222640" y="768240"/>
            <a:ext cx="2654280" cy="38372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22D-B373-40B8-98D6-18E13247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241-1C84-472D-AC44-725AB2C1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12F-55D4-438C-B9A3-8B0B513F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FC7-59E3-4566-B146-A2CE2BB3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E4A-73E3-4D86-A3EC-949BEE2F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245-AC3E-4189-BDD7-65F5A080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18E7-3909-4B74-A74A-51AD556E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EE1-50C0-4D24-AF3E-E69A521B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6E2-9336-4F32-A2B3-EC1A210C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344-888A-45B2-B35F-9093442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3D4-448B-4EE8-BB34-F8E3FAC5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509-0DCA-4FDB-B387-6A74C29C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370C-86B8-4E84-87CB-2898FFB5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ba2009"/>
          <p:cNvPicPr/>
          <p:nvPr/>
        </p:nvPicPr>
        <p:blipFill>
          <a:blip r:embed="rId1"/>
          <a:stretch/>
        </p:blipFill>
        <p:spPr>
          <a:xfrm>
            <a:off x="76320" y="8305920"/>
            <a:ext cx="6456240" cy="1349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Gmod_cog"/>
          <p:cNvPicPr/>
          <p:nvPr/>
        </p:nvPicPr>
        <p:blipFill>
          <a:blip r:embed="rId2"/>
          <a:stretch/>
        </p:blipFill>
        <p:spPr>
          <a:xfrm>
            <a:off x="228600" y="281160"/>
            <a:ext cx="3124080" cy="2298600"/>
          </a:xfrm>
          <a:prstGeom prst="rect">
            <a:avLst/>
          </a:prstGeom>
          <a:ln w="0">
            <a:noFill/>
          </a:ln>
        </p:spPr>
      </p:pic>
      <p:sp>
        <p:nvSpPr>
          <p:cNvPr id="50" name="Line 8"/>
          <p:cNvSpPr/>
          <p:nvPr/>
        </p:nvSpPr>
        <p:spPr>
          <a:xfrm>
            <a:off x="3429000" y="304920"/>
            <a:ext cx="0" cy="2286000"/>
          </a:xfrm>
          <a:prstGeom prst="line">
            <a:avLst/>
          </a:prstGeom>
          <a:ln w="38160">
            <a:solidFill>
              <a:srgbClr val="0942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510720" y="228600"/>
            <a:ext cx="28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Database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362bd"/>
                </a:solidFill>
                <a:latin typeface="Arial Narrow"/>
              </a:rPr>
              <a:t>for Biolog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3500280" y="13795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Pre-conference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3513240" y="1689120"/>
            <a:ext cx="296388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62bd"/>
                </a:solidFill>
                <a:latin typeface="Arial Narrow"/>
              </a:rPr>
              <a:t>28 October 2009, 2-6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www.ausbiotech2009.com.au/bia/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362bd"/>
                </a:solidFill>
                <a:latin typeface="Arial Narrow"/>
              </a:rPr>
              <a:t>http://gmod.org/wiki/BA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0"/>
          <p:cNvSpPr/>
          <p:nvPr/>
        </p:nvSpPr>
        <p:spPr>
          <a:xfrm>
            <a:off x="571680" y="2809800"/>
            <a:ext cx="59814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Learn how GMOD tools can help you visualize, annotate, and manage your genomic data.  GMOD is a collection of interoperable, open source software components that can help you integrate and share biological data.  GMOD tools are used in a wide range of organizations, from major model organism databases (FlyBase, WormBase, TAIR, …) to single lab instal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half-day, pre-conference workshop will introduce the GMOD project and many GMOD tools f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Visualization: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GBrowse, JBrowse, GBrowse_syn, CMap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Data Management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Chado, BioMart, InterMine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362b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Annotation</a:t>
            </a:r>
            <a:r>
              <a:rPr b="0" lang="en-US" sz="1600" spc="-1" strike="noStrike">
                <a:solidFill>
                  <a:srgbClr val="1362bd"/>
                </a:solidFill>
                <a:latin typeface="Arial Narrow"/>
                <a:ea typeface="ＭＳ Ｐゴシック"/>
              </a:rPr>
              <a:t>: MAKER, DIYA, Apollo, Textpresso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GBrowse, a popular genome browser, will be demonstrated with a worked example.  At the end of this workshop participants will understand which GMOD tools may be useful to them, and have an understanding of the effort required to us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95440" y="7310520"/>
            <a:ext cx="1614240" cy="107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62320" y="7284960"/>
            <a:ext cx="4190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62bd"/>
                </a:solidFill>
                <a:latin typeface="Arial Narrow"/>
              </a:rPr>
              <a:t>This workshop is generously sponsored by Bioplatforms Australia, and admission to the workshop is included in the registration for Bioinformatics Australia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4:30:39Z</dcterms:created>
  <dc:creator>GMOD / NESCent</dc:creator>
  <dc:description/>
  <dc:language>en-US</dc:language>
  <cp:lastModifiedBy>GMOD / NESCent</cp:lastModifiedBy>
  <dcterms:modified xsi:type="dcterms:W3CDTF">2009-09-30T16:57:49Z</dcterms:modified>
  <cp:revision>17</cp:revision>
  <dc:subject/>
  <dc:title>PowerPoint Presentation</dc:title>
</cp:coreProperties>
</file>